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93A-794F-4747-BE8D-FAE7C66B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BCF-14C4-46B3-8FA3-9BAA8534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1CA-50D7-4618-B496-ABC29F52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D8F-F710-473B-9E5F-760B30CF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940-9F0C-4E0E-977D-5D9814F1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30A-FC0D-4C25-944D-3AC405C0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9A8-CE23-4E33-98C1-E839C52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DD7-CA92-4799-A104-EE544B4C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AFC-C184-49F5-9C2E-B97636D1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630-FA7C-436D-ADDB-37DA419A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4B9-FCD7-463F-A101-6AEC270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E94-F55B-43BB-9091-97873032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6421-27DD-45A3-8D27-A9691A65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5800" y="6095880"/>
            <a:ext cx="3049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05800" y="4876920"/>
            <a:ext cx="3049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5800" y="4121280"/>
            <a:ext cx="304920" cy="69192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5800" y="609480"/>
            <a:ext cx="3049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876920"/>
            <a:ext cx="69343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121280"/>
            <a:ext cx="6934320" cy="685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69343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43480" y="210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8373240" y="42861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95440"/>
            <a:ext cx="7081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8:00-9:00am, California Room, Bert Overdu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2960" y="408456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a Comprehensive Genomics, Genetics &amp; Breeding DB for Caca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3:45-4:00pm, Pacific Salon 6 &amp; 7, Ping Zh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to Use MetaCyc and the Pathway Tools Software in Local 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4:30-4:50pm, California Room, Lukas Mue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247600" y="526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7021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798: CottonDB: An Integrated Repository Resource for Co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0: Genome Annotation and Report System: An Integrated System for Structural &amp; Functional Genome Ann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5: GnpIS, A Portal andInformation System to Bridge Genetics and Genomics Pland &amp; Fungi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4: Informatics for Turbo-charged Comparative Biology: Highlights from the GMOD Evo Hackat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8: A Complete Community Annotation System using GMO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28: GBrowse 2.2: Fast, Friendly, and Soc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88: GDR (Genome Database f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Building Resources for Translational Research i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5800" y="601560"/>
            <a:ext cx="1340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CCA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647712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095880"/>
            <a:ext cx="69343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8680" y="6093000"/>
            <a:ext cx="634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nd at least 8 other talks and 9 more posters by GMOD users (see http://gmod.org/wiki/PAG_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2200" y="603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1752480"/>
            <a:ext cx="563868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752480"/>
            <a:ext cx="129564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6280" y="3429000"/>
            <a:ext cx="110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:20 - 5: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cific Salon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752480"/>
            <a:ext cx="56386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0:30-11:30am, Pacific Salon 3, Carson Ho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1:30am-12:30pm, Pacific Salon 3, Dan Blankenbe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Browse: A Next Generation Genome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:30-2:30pm, Pacific Salon 3, Mitch Skin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pal: A Construction Toolkit for Online Genomic Datab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2:30-3:30pm, Pacific Salon 3, Stephen Fick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views: A Configurable Interface for GMOD Databases &amp;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3:45-4:00pm, Pacific Salon 3, Michael Ca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Browse_syn: The Generic Synteny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4:00-5:00pm, Pacific Salon 3, Robert Bu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7000" y="1793880"/>
            <a:ext cx="113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12-27T05:38:31Z</cp:lastPrinted>
  <dcterms:modified xsi:type="dcterms:W3CDTF">2011-01-04T20:58:57Z</dcterms:modified>
  <cp:revision>46</cp:revision>
  <dc:subject/>
  <dc:title>PowerPoint Presentation</dc:title>
</cp:coreProperties>
</file>